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CB4-B020-49D2-828C-FD92BBC8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6F3-31AB-472A-B531-3091B7D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ACD-6EED-49B2-B15F-54C4FCB2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C9B-9454-4428-A1B2-2BD075A2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7681-5819-4E5C-87E4-9E85CA7F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FF80-D2FD-4B71-B762-FB88ED5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E079-0CD7-49F8-9458-A39A125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356A-2416-458F-A3FF-25A5E88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D6F-433D-4E2C-9FB2-04704B1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1674-E64F-4248-960F-C397D7B9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978-628D-42B5-B968-9BFE29A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150-2E17-4B61-A2F4-90F7185C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1FC3-ED9C-4B0C-9B22-93F179D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9A37-8171-4B7B-8B05-F7E6B43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045D-7ACD-48E0-9EC6-3C6ED93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1DC2-F65F-4C6D-A44F-005B0A83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538-457D-4BDD-BDBA-EE8DBBA9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0AE-AC59-417A-86BF-F70D055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F43-737F-4FFC-BA08-53EF391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D1B-8199-441F-8071-A68BF34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E76-714A-4E16-AAB8-A6A9826E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EC8-2F52-4BA2-8B99-B48A756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E14-A3E4-476A-999A-3909B93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D30-4ECA-47F2-BD10-8FE0E4B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C40-F10A-41B3-9DDA-31F16C9996C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1B0-6DD0-4780-9143-1B9EB92D6A1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cary scarecr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n he started hunting kids all around the count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336920" cy="17524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610480" y="6400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3505320" y="5715000"/>
            <a:ext cx="2133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is family never saw him aga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905120" cy="1886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 rot="20851200">
            <a:off x="304920" y="228240"/>
            <a:ext cx="1509480" cy="1619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5486400"/>
            <a:ext cx="17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want to stay alive don’t tell anyo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48720" y="54864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 flipH="1">
            <a:off x="0" y="5791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2:00Z</dcterms:created>
  <dc:creator>dornell frazier</dc:creator>
  <dc:description/>
  <dc:language>en-US</dc:language>
  <cp:lastModifiedBy>dornell frazier</cp:lastModifiedBy>
  <dcterms:modified xsi:type="dcterms:W3CDTF">2010-10-25T18:07:19Z</dcterms:modified>
  <cp:revision>6</cp:revision>
  <dc:subject/>
  <dc:title>Slide 1</dc:title>
</cp:coreProperties>
</file>